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5EB-48A1-4761-A3F5-D0DC9A19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968-96D9-419A-A763-97803E33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BC1-6B27-4F22-AA19-D9663B16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BEF-4A6B-42F0-82D6-7CC82483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D16E-2A46-4CFB-B53F-F25594B2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5DF-0875-45A1-8874-81BFC74E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B03-8692-4290-8A60-E067115B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E38-6C69-41E9-A877-1DF34995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4DF-B2D3-4296-A95F-F79ABDB3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BB8-818F-4EAC-A5BB-0A00F3D0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AA3-A3DB-41A9-A3FC-5BD485EC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2F2D-EE7E-4159-A79D-69575A5A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F703-5F68-4701-88FB-51ACF6814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50920" y="1628640"/>
            <a:ext cx="86202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Аз зная, че тук Христос дойде 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за мен презря Своя трон в небе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 човешка плът Той прие за мен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на кръст умря, аз да съм спасен.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54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08000" y="1773360"/>
            <a:ext cx="88963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Но зная аз, пак ще дойде Той,</a:t>
            </a:r>
            <a:endParaRPr b="0" lang="en-US" sz="48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8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ще дойде знам с ангели безброй</a:t>
            </a:r>
            <a:endParaRPr b="0" lang="en-US" sz="48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 на грях и смърт Той ще сложи край,</a:t>
            </a:r>
            <a:endParaRPr b="0" lang="en-US" sz="48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земята пак ще превърне в рай.</a:t>
            </a:r>
            <a:endParaRPr b="0" lang="en-US" sz="48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39840" y="1916280"/>
            <a:ext cx="855324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сусе мой, аз Те чакам днес, 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разнасям вред тази блага вест,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вярвам, че кога в слава се явиш,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вечен живот Ти ще ми дариш. 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6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04840" y="1773360"/>
            <a:ext cx="861516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Копнея за тоз тържествен ден, 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когато ще съм на век блажен.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Днес сърцето ми пей на Теб хвала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 Те зове, Господи ела!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8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8:47:28Z</dcterms:created>
  <dc:creator>x</dc:creator>
  <dc:description/>
  <dc:language>en-US</dc:language>
  <cp:lastModifiedBy>TrifonTrifonow</cp:lastModifiedBy>
  <dcterms:modified xsi:type="dcterms:W3CDTF">2005-09-13T20:43:03Z</dcterms:modified>
  <cp:revision>17</cp:revision>
  <dc:subject/>
  <dc:title>Аз зная, че тук  Христос дойде  за мен презря Своя  трон в небе и човешка плът  Той прие за мен на кръст умря,  аз да съм спасен</dc:title>
</cp:coreProperties>
</file>